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90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1776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762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90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1776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9A0838-967C-4572-898C-FFDABE1BD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60DA50-2032-4CBD-8928-FF0E2DC93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E996F6-5B99-48B4-A9E6-975E431C7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6904C2-FE0B-4F15-8D9C-516143AA9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E58B03-D3C5-45F7-8A8D-7C3A662A3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37E7B0-5446-4F1E-8C86-2E3C70AA1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181D5F-E212-486F-A793-C2D764F5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E9A29B-A67D-47B0-8EB8-7082F6C3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2426CB-6223-44B0-BC2B-63C51E83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2D536C-B1BC-4E2B-A7D2-86736E9BA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40D852-5554-423B-834B-90E4ED871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90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1776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762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90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1776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12DCED-0858-48DA-8EE9-4C3D7E219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8963"/>
                </a:solidFill>
                <a:latin typeface="Times New Roman"/>
              </a:rPr>
              <a:t>Seatt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0120" y="624852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AISC CIS/2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GA Tech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1143000"/>
            <a:ext cx="3810240" cy="0"/>
          </a:xfrm>
          <a:prstGeom prst="line">
            <a:avLst/>
          </a:prstGeom>
          <a:ln w="76320">
            <a:solidFill>
              <a:srgbClr val="578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838080" y="6114960"/>
            <a:ext cx="1752840" cy="742680"/>
            <a:chOff x="838080" y="6114960"/>
            <a:chExt cx="1752840" cy="742680"/>
          </a:xfrm>
        </p:grpSpPr>
        <p:sp>
          <p:nvSpPr>
            <p:cNvPr id="6" name=""/>
            <p:cNvSpPr/>
            <p:nvPr/>
          </p:nvSpPr>
          <p:spPr>
            <a:xfrm>
              <a:off x="838080" y="653580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38080" y="653580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86680" y="653580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86680" y="653580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62200" y="6114960"/>
              <a:ext cx="43920" cy="551160"/>
            </a:xfrm>
            <a:custGeom>
              <a:avLst/>
              <a:gdLst/>
              <a:ahLst/>
              <a:rect l="l" t="t" r="r" b="b"/>
              <a:pathLst>
                <a:path w="54" h="534">
                  <a:moveTo>
                    <a:pt x="54" y="534"/>
                  </a:moveTo>
                  <a:lnTo>
                    <a:pt x="30" y="0"/>
                  </a:lnTo>
                  <a:lnTo>
                    <a:pt x="0" y="53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8080" y="6826680"/>
              <a:ext cx="92880" cy="3096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0240" y="6829920"/>
              <a:ext cx="8784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945720" y="6343920"/>
              <a:ext cx="151560" cy="167040"/>
            </a:xfrm>
            <a:custGeom>
              <a:avLst/>
              <a:gdLst/>
              <a:ahLst/>
              <a:rect l="l" t="t" r="r" b="b"/>
              <a:pathLst>
                <a:path w="186" h="162">
                  <a:moveTo>
                    <a:pt x="186" y="156"/>
                  </a:moveTo>
                  <a:lnTo>
                    <a:pt x="156" y="156"/>
                  </a:lnTo>
                  <a:lnTo>
                    <a:pt x="156" y="156"/>
                  </a:lnTo>
                  <a:lnTo>
                    <a:pt x="156" y="150"/>
                  </a:lnTo>
                  <a:lnTo>
                    <a:pt x="150" y="144"/>
                  </a:lnTo>
                  <a:lnTo>
                    <a:pt x="150" y="138"/>
                  </a:lnTo>
                  <a:lnTo>
                    <a:pt x="150" y="138"/>
                  </a:lnTo>
                  <a:lnTo>
                    <a:pt x="138" y="150"/>
                  </a:lnTo>
                  <a:lnTo>
                    <a:pt x="114" y="156"/>
                  </a:lnTo>
                  <a:lnTo>
                    <a:pt x="96" y="162"/>
                  </a:lnTo>
                  <a:lnTo>
                    <a:pt x="96" y="162"/>
                  </a:lnTo>
                  <a:lnTo>
                    <a:pt x="48" y="150"/>
                  </a:lnTo>
                  <a:lnTo>
                    <a:pt x="12" y="12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36"/>
                  </a:lnTo>
                  <a:lnTo>
                    <a:pt x="48" y="12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6"/>
                  </a:lnTo>
                  <a:lnTo>
                    <a:pt x="168" y="24"/>
                  </a:lnTo>
                  <a:lnTo>
                    <a:pt x="186" y="54"/>
                  </a:lnTo>
                  <a:lnTo>
                    <a:pt x="186" y="54"/>
                  </a:lnTo>
                  <a:lnTo>
                    <a:pt x="174" y="54"/>
                  </a:lnTo>
                  <a:lnTo>
                    <a:pt x="150" y="54"/>
                  </a:lnTo>
                  <a:lnTo>
                    <a:pt x="132" y="54"/>
                  </a:lnTo>
                  <a:lnTo>
                    <a:pt x="132" y="54"/>
                  </a:lnTo>
                  <a:lnTo>
                    <a:pt x="126" y="42"/>
                  </a:lnTo>
                  <a:lnTo>
                    <a:pt x="114" y="36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72" y="42"/>
                  </a:lnTo>
                  <a:lnTo>
                    <a:pt x="54" y="60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54" y="102"/>
                  </a:lnTo>
                  <a:lnTo>
                    <a:pt x="72" y="120"/>
                  </a:lnTo>
                  <a:lnTo>
                    <a:pt x="96" y="126"/>
                  </a:lnTo>
                  <a:lnTo>
                    <a:pt x="96" y="126"/>
                  </a:lnTo>
                  <a:lnTo>
                    <a:pt x="120" y="120"/>
                  </a:lnTo>
                  <a:lnTo>
                    <a:pt x="132" y="114"/>
                  </a:lnTo>
                  <a:lnTo>
                    <a:pt x="138" y="102"/>
                  </a:lnTo>
                  <a:lnTo>
                    <a:pt x="138" y="102"/>
                  </a:lnTo>
                  <a:lnTo>
                    <a:pt x="132" y="102"/>
                  </a:lnTo>
                  <a:lnTo>
                    <a:pt x="114" y="102"/>
                  </a:lnTo>
                  <a:lnTo>
                    <a:pt x="108" y="102"/>
                  </a:lnTo>
                  <a:lnTo>
                    <a:pt x="108" y="102"/>
                  </a:lnTo>
                  <a:lnTo>
                    <a:pt x="108" y="72"/>
                  </a:lnTo>
                  <a:lnTo>
                    <a:pt x="186" y="72"/>
                  </a:lnTo>
                  <a:lnTo>
                    <a:pt x="186" y="15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107360" y="638712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8" y="90"/>
                  </a:lnTo>
                  <a:lnTo>
                    <a:pt x="78" y="90"/>
                  </a:lnTo>
                  <a:lnTo>
                    <a:pt x="84" y="90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2" y="78"/>
                  </a:lnTo>
                  <a:lnTo>
                    <a:pt x="114" y="78"/>
                  </a:lnTo>
                  <a:lnTo>
                    <a:pt x="132" y="78"/>
                  </a:lnTo>
                  <a:lnTo>
                    <a:pt x="144" y="78"/>
                  </a:lnTo>
                  <a:lnTo>
                    <a:pt x="144" y="78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50" y="66"/>
                  </a:lnTo>
                  <a:lnTo>
                    <a:pt x="150" y="66"/>
                  </a:lnTo>
                  <a:lnTo>
                    <a:pt x="120" y="66"/>
                  </a:lnTo>
                  <a:lnTo>
                    <a:pt x="72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234440" y="638712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6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54" y="30"/>
                  </a:lnTo>
                  <a:lnTo>
                    <a:pt x="48" y="42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61880" y="6387120"/>
              <a:ext cx="78120" cy="117720"/>
            </a:xfrm>
            <a:custGeom>
              <a:avLst/>
              <a:gdLst/>
              <a:ahLst/>
              <a:rect l="l" t="t" r="r" b="b"/>
              <a:pathLst>
                <a:path w="96" h="114">
                  <a:moveTo>
                    <a:pt x="0" y="0"/>
                  </a:moveTo>
                  <a:lnTo>
                    <a:pt x="42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54" y="12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12"/>
                  </a:lnTo>
                  <a:lnTo>
                    <a:pt x="96" y="24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6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72"/>
                  </a:lnTo>
                  <a:lnTo>
                    <a:pt x="42" y="102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440000" y="6387120"/>
              <a:ext cx="117360" cy="16092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144" y="102"/>
                  </a:moveTo>
                  <a:lnTo>
                    <a:pt x="144" y="120"/>
                  </a:lnTo>
                  <a:lnTo>
                    <a:pt x="126" y="144"/>
                  </a:lnTo>
                  <a:lnTo>
                    <a:pt x="78" y="156"/>
                  </a:lnTo>
                  <a:lnTo>
                    <a:pt x="78" y="156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42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26"/>
                  </a:lnTo>
                  <a:lnTo>
                    <a:pt x="72" y="132"/>
                  </a:lnTo>
                  <a:lnTo>
                    <a:pt x="78" y="132"/>
                  </a:lnTo>
                  <a:lnTo>
                    <a:pt x="78" y="132"/>
                  </a:lnTo>
                  <a:lnTo>
                    <a:pt x="96" y="126"/>
                  </a:lnTo>
                  <a:lnTo>
                    <a:pt x="102" y="114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90" y="102"/>
                  </a:lnTo>
                  <a:lnTo>
                    <a:pt x="78" y="108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30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2" y="24"/>
                  </a:lnTo>
                  <a:lnTo>
                    <a:pt x="30" y="6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90" y="6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0"/>
                  </a:lnTo>
                  <a:lnTo>
                    <a:pt x="144" y="0"/>
                  </a:lnTo>
                  <a:lnTo>
                    <a:pt x="144" y="102"/>
                  </a:lnTo>
                  <a:close/>
                  <a:moveTo>
                    <a:pt x="72" y="24"/>
                  </a:moveTo>
                  <a:lnTo>
                    <a:pt x="60" y="30"/>
                  </a:lnTo>
                  <a:lnTo>
                    <a:pt x="48" y="42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66"/>
                  </a:lnTo>
                  <a:lnTo>
                    <a:pt x="60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90" y="78"/>
                  </a:lnTo>
                  <a:lnTo>
                    <a:pt x="102" y="66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102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72120" y="634392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616400" y="638712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6" y="36"/>
                  </a:moveTo>
                  <a:lnTo>
                    <a:pt x="12" y="24"/>
                  </a:lnTo>
                  <a:lnTo>
                    <a:pt x="18" y="12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42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2" y="0"/>
                  </a:lnTo>
                  <a:lnTo>
                    <a:pt x="126" y="12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38" y="48"/>
                  </a:lnTo>
                  <a:lnTo>
                    <a:pt x="138" y="72"/>
                  </a:lnTo>
                  <a:lnTo>
                    <a:pt x="138" y="84"/>
                  </a:lnTo>
                  <a:lnTo>
                    <a:pt x="138" y="84"/>
                  </a:lnTo>
                  <a:lnTo>
                    <a:pt x="138" y="96"/>
                  </a:lnTo>
                  <a:lnTo>
                    <a:pt x="138" y="102"/>
                  </a:lnTo>
                  <a:lnTo>
                    <a:pt x="144" y="114"/>
                  </a:lnTo>
                  <a:lnTo>
                    <a:pt x="144" y="114"/>
                  </a:lnTo>
                  <a:lnTo>
                    <a:pt x="132" y="114"/>
                  </a:lnTo>
                  <a:lnTo>
                    <a:pt x="108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08"/>
                  </a:lnTo>
                  <a:lnTo>
                    <a:pt x="96" y="108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84" y="114"/>
                  </a:lnTo>
                  <a:lnTo>
                    <a:pt x="66" y="114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24" y="114"/>
                  </a:lnTo>
                  <a:lnTo>
                    <a:pt x="6" y="10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8" y="60"/>
                  </a:lnTo>
                  <a:lnTo>
                    <a:pt x="48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90" y="42"/>
                  </a:lnTo>
                  <a:lnTo>
                    <a:pt x="96" y="42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30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36" y="36"/>
                  </a:lnTo>
                  <a:lnTo>
                    <a:pt x="18" y="36"/>
                  </a:lnTo>
                  <a:lnTo>
                    <a:pt x="6" y="36"/>
                  </a:lnTo>
                  <a:lnTo>
                    <a:pt x="6" y="36"/>
                  </a:lnTo>
                  <a:close/>
                  <a:moveTo>
                    <a:pt x="66" y="96"/>
                  </a:moveTo>
                  <a:lnTo>
                    <a:pt x="84" y="90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84" y="66"/>
                  </a:lnTo>
                  <a:lnTo>
                    <a:pt x="78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54" y="72"/>
                  </a:lnTo>
                  <a:lnTo>
                    <a:pt x="48" y="72"/>
                  </a:lnTo>
                  <a:lnTo>
                    <a:pt x="48" y="84"/>
                  </a:lnTo>
                  <a:lnTo>
                    <a:pt x="48" y="84"/>
                  </a:lnTo>
                  <a:lnTo>
                    <a:pt x="48" y="90"/>
                  </a:lnTo>
                  <a:lnTo>
                    <a:pt x="54" y="96"/>
                  </a:lnTo>
                  <a:lnTo>
                    <a:pt x="66" y="96"/>
                  </a:lnTo>
                  <a:lnTo>
                    <a:pt x="66" y="9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753560" y="6343920"/>
              <a:ext cx="38880" cy="1609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756080" y="6346800"/>
              <a:ext cx="3420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812240" y="638712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812240" y="638712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92996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92996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228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228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26764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26764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3900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3900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135520" y="634392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137680" y="6390360"/>
              <a:ext cx="34200" cy="1112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137680" y="6346800"/>
              <a:ext cx="3420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1794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1794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473560" y="638712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96" y="48"/>
                  </a:moveTo>
                  <a:lnTo>
                    <a:pt x="96" y="36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96" y="48"/>
                  </a:lnTo>
                  <a:lnTo>
                    <a:pt x="96" y="4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473560" y="638712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507760" y="6411960"/>
              <a:ext cx="43920" cy="244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4" y="24"/>
                  </a:moveTo>
                  <a:lnTo>
                    <a:pt x="54" y="12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8" y="24"/>
                  </a:lnTo>
                  <a:lnTo>
                    <a:pt x="42" y="24"/>
                  </a:lnTo>
                  <a:lnTo>
                    <a:pt x="54" y="24"/>
                  </a:lnTo>
                  <a:lnTo>
                    <a:pt x="54" y="2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104364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04364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077840" y="6603840"/>
              <a:ext cx="43920" cy="6192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161000" y="653580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61000" y="653580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258920" y="6535800"/>
              <a:ext cx="136800" cy="154440"/>
            </a:xfrm>
            <a:custGeom>
              <a:avLst/>
              <a:gdLst/>
              <a:ahLst/>
              <a:rect l="l" t="t" r="r" b="b"/>
              <a:pathLst>
                <a:path w="168" h="150">
                  <a:moveTo>
                    <a:pt x="168" y="30"/>
                  </a:moveTo>
                  <a:lnTo>
                    <a:pt x="108" y="30"/>
                  </a:lnTo>
                  <a:lnTo>
                    <a:pt x="108" y="150"/>
                  </a:lnTo>
                  <a:lnTo>
                    <a:pt x="60" y="150"/>
                  </a:lnTo>
                  <a:lnTo>
                    <a:pt x="60" y="3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6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61880" y="657324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72"/>
                  </a:moveTo>
                  <a:lnTo>
                    <a:pt x="48" y="84"/>
                  </a:lnTo>
                  <a:lnTo>
                    <a:pt x="60" y="90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84" y="96"/>
                  </a:lnTo>
                  <a:lnTo>
                    <a:pt x="96" y="90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14" y="84"/>
                  </a:lnTo>
                  <a:lnTo>
                    <a:pt x="132" y="84"/>
                  </a:lnTo>
                  <a:lnTo>
                    <a:pt x="144" y="84"/>
                  </a:lnTo>
                  <a:lnTo>
                    <a:pt x="144" y="84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8" y="120"/>
                  </a:lnTo>
                  <a:lnTo>
                    <a:pt x="78" y="120"/>
                  </a:lnTo>
                  <a:lnTo>
                    <a:pt x="36" y="114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12"/>
                  </a:lnTo>
                  <a:lnTo>
                    <a:pt x="138" y="36"/>
                  </a:lnTo>
                  <a:lnTo>
                    <a:pt x="150" y="72"/>
                  </a:lnTo>
                  <a:lnTo>
                    <a:pt x="150" y="72"/>
                  </a:lnTo>
                  <a:lnTo>
                    <a:pt x="120" y="72"/>
                  </a:lnTo>
                  <a:lnTo>
                    <a:pt x="72" y="72"/>
                  </a:lnTo>
                  <a:lnTo>
                    <a:pt x="42" y="72"/>
                  </a:lnTo>
                  <a:lnTo>
                    <a:pt x="42" y="72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30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89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90" y="90"/>
                  </a:lnTo>
                  <a:lnTo>
                    <a:pt x="96" y="84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14" y="72"/>
                  </a:lnTo>
                  <a:lnTo>
                    <a:pt x="132" y="72"/>
                  </a:lnTo>
                  <a:lnTo>
                    <a:pt x="144" y="72"/>
                  </a:lnTo>
                  <a:lnTo>
                    <a:pt x="144" y="72"/>
                  </a:lnTo>
                  <a:lnTo>
                    <a:pt x="132" y="96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14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8" y="6"/>
                  </a:lnTo>
                  <a:lnTo>
                    <a:pt x="132" y="18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32" y="48"/>
                  </a:lnTo>
                  <a:lnTo>
                    <a:pt x="11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16400" y="653580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0" y="0"/>
                  </a:moveTo>
                  <a:lnTo>
                    <a:pt x="42" y="0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54" y="48"/>
                  </a:lnTo>
                  <a:lnTo>
                    <a:pt x="72" y="42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120" y="42"/>
                  </a:lnTo>
                  <a:lnTo>
                    <a:pt x="138" y="60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38" y="102"/>
                  </a:lnTo>
                  <a:lnTo>
                    <a:pt x="138" y="132"/>
                  </a:lnTo>
                  <a:lnTo>
                    <a:pt x="138" y="150"/>
                  </a:lnTo>
                  <a:lnTo>
                    <a:pt x="138" y="150"/>
                  </a:lnTo>
                  <a:lnTo>
                    <a:pt x="90" y="150"/>
                  </a:lnTo>
                  <a:lnTo>
                    <a:pt x="90" y="150"/>
                  </a:lnTo>
                  <a:lnTo>
                    <a:pt x="90" y="138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96"/>
                  </a:lnTo>
                  <a:lnTo>
                    <a:pt x="90" y="84"/>
                  </a:lnTo>
                  <a:lnTo>
                    <a:pt x="84" y="72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54" y="72"/>
                  </a:lnTo>
                  <a:lnTo>
                    <a:pt x="48" y="78"/>
                  </a:lnTo>
                  <a:lnTo>
                    <a:pt x="42" y="90"/>
                  </a:lnTo>
                  <a:lnTo>
                    <a:pt x="42" y="90"/>
                  </a:lnTo>
                  <a:lnTo>
                    <a:pt x="42" y="108"/>
                  </a:lnTo>
                  <a:lnTo>
                    <a:pt x="42" y="138"/>
                  </a:lnTo>
                  <a:lnTo>
                    <a:pt x="42" y="150"/>
                  </a:lnTo>
                  <a:lnTo>
                    <a:pt x="42" y="150"/>
                  </a:lnTo>
                  <a:lnTo>
                    <a:pt x="0" y="1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748520" y="65732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48520" y="65732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8709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8709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905480" y="6603840"/>
              <a:ext cx="4860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98360" y="6535800"/>
              <a:ext cx="3888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000880" y="6539040"/>
              <a:ext cx="34200" cy="1483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047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047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81520" y="6603840"/>
              <a:ext cx="4896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74760" y="65732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  <a:close/>
                  <a:moveTo>
                    <a:pt x="72" y="30"/>
                  </a:moveTo>
                  <a:lnTo>
                    <a:pt x="54" y="30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66"/>
                  </a:lnTo>
                  <a:lnTo>
                    <a:pt x="54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84" y="78"/>
                  </a:lnTo>
                  <a:lnTo>
                    <a:pt x="96" y="72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30"/>
                  </a:lnTo>
                  <a:lnTo>
                    <a:pt x="72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74760" y="65732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08960" y="6603840"/>
              <a:ext cx="43920" cy="554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0" y="0"/>
                  </a:moveTo>
                  <a:lnTo>
                    <a:pt x="12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36"/>
                  </a:lnTo>
                  <a:lnTo>
                    <a:pt x="12" y="48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42" y="48"/>
                  </a:lnTo>
                  <a:lnTo>
                    <a:pt x="54" y="42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12"/>
                  </a:lnTo>
                  <a:lnTo>
                    <a:pt x="48" y="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97160" y="657900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97160" y="657900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2ED64-A7A0-40D4-8120-8A0F55819F8B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990720" y="1981080"/>
            <a:ext cx="647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ahoma"/>
              </a:rPr>
              <a:t>MIS Interface with Fabtrol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14600" y="3048120"/>
            <a:ext cx="6019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Frank Wang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Chuck Eastma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2971800" y="1143000"/>
          <a:ext cx="5014800" cy="518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1143000"/>
                    <a:ext cx="501480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533520" y="304920"/>
            <a:ext cx="601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Definition of Main Assembly (1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6483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item_property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arries a description and a proerty valu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3276720" y="1371600"/>
          <a:ext cx="5333760" cy="4737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76720" y="1371600"/>
                    <a:ext cx="5333760" cy="473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533520" y="304920"/>
            <a:ext cx="601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Definition of Main Assembly (2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43434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Structural_frame_item_relationship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carries a description and a lab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553080" y="4876920"/>
            <a:ext cx="129564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80880" y="1828800"/>
          <a:ext cx="7694640" cy="383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828800"/>
                    <a:ext cx="7694640" cy="38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4572000" y="1523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Part I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Part Mark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248520" y="1676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Part Nam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86400" y="1905120"/>
            <a:ext cx="533520" cy="106668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86600" y="2133720"/>
            <a:ext cx="380880" cy="152388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905120" y="3733560"/>
            <a:ext cx="2438280" cy="15228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4572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Part Identifier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149400" y="1373040"/>
          <a:ext cx="8769240" cy="445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9400" y="1373040"/>
                    <a:ext cx="876924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457200" y="3808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Section Profiles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800600" y="3808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Section profile defined in flavor fil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2895480" y="1066680"/>
            <a:ext cx="1981440" cy="53352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05520" y="121932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Section profile defined in item_propert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543800" y="2057400"/>
            <a:ext cx="762120" cy="251460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2T03:16:57Z</dcterms:created>
  <dc:creator>Eastman</dc:creator>
  <dc:description/>
  <dc:language>en-US</dc:language>
  <cp:lastModifiedBy>fwang</cp:lastModifiedBy>
  <dcterms:modified xsi:type="dcterms:W3CDTF">2002-05-06T15:46:04Z</dcterms:modified>
  <cp:revision>2</cp:revision>
  <dc:subject/>
  <dc:title>No Slide Title</dc:title>
</cp:coreProperties>
</file>